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36.gif" ContentType="image/gif"/>
  <Override PartName="/ppt/media/image20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BEDC-9CBB-4B15-9763-46D9982FE373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7F67-BAFA-4BCE-8868-0AA6CB19BC43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B1F-2BC1-4620-8D56-DFABEBFC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DD2-A932-4D6D-8DAC-B4232FC5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3B5-B2A3-4839-9A48-E8EC8D37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17C-5580-470F-B502-43744956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538-B980-4B52-89E0-598AD668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EA3-3B50-497F-B818-DFE9A9C8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175-3EFE-4358-8B1B-922B7735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616-19BC-4D01-B7B8-CC35E985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E1C-8194-4EC2-AF06-1260F6D9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40D-2624-4DE4-A221-5A606BC7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C5A-ABBD-4C1D-B331-500B7399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CD9-7EC8-4D90-B867-0AB0B78E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7A5A-8F80-40B4-8718-2336FDBD636C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7C1C-FD19-4A6A-B093-6503D41C3D09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12" descr="lefk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1600200" y="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Αριστοτέλειο Πανεπιστήμιο Θεσσαλονίκη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57200" y="762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9966"/>
                </a:solidFill>
                <a:latin typeface="Times New Roman"/>
                <a:ea typeface="Arial Unicode MS"/>
              </a:rPr>
              <a:t>Διαπανεπιστημιακό - Διατμηματικό πρόγραμμα</a:t>
            </a:r>
            <a:r>
              <a:rPr b="1" lang="el-GR" sz="18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339966"/>
                </a:solidFill>
                <a:latin typeface="Times New Roman"/>
                <a:ea typeface="Arial Unicode MS"/>
              </a:rPr>
              <a:t>Μεταπτυχιακών </a:t>
            </a:r>
            <a:r>
              <a:rPr b="1" lang="el-GR" sz="1800" spc="-1" strike="noStrike">
                <a:solidFill>
                  <a:srgbClr val="339966"/>
                </a:solidFill>
                <a:latin typeface="Times New Roman"/>
              </a:rPr>
              <a:t>Σ</a:t>
            </a:r>
            <a:r>
              <a:rPr b="1" lang="el-GR" sz="1800" spc="-1" strike="noStrike">
                <a:solidFill>
                  <a:srgbClr val="339966"/>
                </a:solidFill>
                <a:latin typeface="Times New Roman"/>
                <a:ea typeface="Arial Unicode MS"/>
              </a:rPr>
              <a:t>πουδώ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198108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Καταγραφή και χαρακτηρισμός των ρυπογόνω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       </a:t>
            </a:r>
            <a:r>
              <a:rPr b="1" lang="el-GR" sz="28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Βιομηχανιών</a:t>
            </a:r>
            <a:r>
              <a:rPr b="0" lang="el-GR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ff6600"/>
                </a:solidFill>
                <a:latin typeface="Times New Roman"/>
              </a:rPr>
              <a:t>του Νομού Θεσσαλονίκης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116000" y="3860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Στα πλαίσια του μαθήματος «Χημεία και καθημερινή ζωή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867280" y="64911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Ακαδημαϊκό έτος 2004 – 20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752480" y="30492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66"/>
                </a:solidFill>
                <a:latin typeface="Arial Unicode MS"/>
              </a:rPr>
              <a:t>Τμήμα Χημείας Σχολής Θετικών Επιστημώ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38080" y="11430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9966"/>
                </a:solidFill>
                <a:latin typeface="Arial Unicode MS"/>
              </a:rPr>
              <a:t>Διδακτική της Χημείας και Νέες Εκπαιδευτικές Τεχνολογίε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8108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66"/>
                </a:solidFill>
                <a:latin typeface="Arial Unicode MS"/>
                <a:ea typeface="Times New Roman"/>
              </a:rPr>
              <a:t>ΔιΧηΝΕΤ</a:t>
            </a:r>
            <a:r>
              <a:rPr b="1" lang="en-US" sz="2400" spc="-1" strike="noStrike">
                <a:solidFill>
                  <a:srgbClr val="000066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0" y="522936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Γεώργιος Α. Καπούλας,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 </a:t>
            </a:r>
            <a:r>
              <a:rPr b="0" lang="el-GR" sz="20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Ανδρέας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Φλαμουράκ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0" y="5877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Καθηγητές:  Α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.</a:t>
            </a:r>
            <a:r>
              <a:rPr b="0" i="1" lang="el-GR" sz="24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 Μαρούλης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  <a:ea typeface="Arial Unicode MS"/>
              </a:rPr>
              <a:t>, K.</a:t>
            </a:r>
            <a:r>
              <a:rPr b="0" i="1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Χατζηαντωνίου Μαρούλη</a:t>
            </a:r>
            <a:r>
              <a:rPr b="0" lang="el-GR" sz="1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21A0-A8A7-4178-8489-167834F361D6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133720" y="228600"/>
            <a:ext cx="541008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Ταξινόμηση αποβλήτω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1066680"/>
            <a:ext cx="91440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Επικίνδυνα απόβλητ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ποικοδομούνται δύσκολα ή καθόλου στη φύσ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μπορεί να συσσωρεύονται βιολογικ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μπορεί να προκαλούν ασθένειες ή να είναι θανατηφόρ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3645000"/>
            <a:ext cx="8763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Τα επικίνδυνα απόβλητα μπορεί :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να </a:t>
            </a:r>
            <a:r>
              <a:rPr b="1" lang="el-GR" sz="2400" spc="-1" strike="noStrike">
                <a:solidFill>
                  <a:srgbClr val="000000"/>
                </a:solidFill>
                <a:latin typeface="Arial Unicode MS"/>
              </a:rPr>
              <a:t>είναι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τοξικά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να είναι διαβρωτικά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να αναφλέγονται εύκολ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να έχουν αντιδραστικότητ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3593-5174-49A2-B804-067352C2F3B8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0" y="1341360"/>
            <a:ext cx="886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Τα τοξικά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πόβλητα μπορεί να προκαλούν δύσπνοια ή άλλα προβλήματα του αναπνευστικού συστήματος, καρκινογένεση, μεταλλάξεις, ακόμη και θάνατο.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3" descr="6"/>
          <p:cNvPicPr/>
          <p:nvPr/>
        </p:nvPicPr>
        <p:blipFill>
          <a:blip r:embed="rId1"/>
          <a:stretch/>
        </p:blipFill>
        <p:spPr>
          <a:xfrm>
            <a:off x="539640" y="3213000"/>
            <a:ext cx="238608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3657600" y="3645000"/>
            <a:ext cx="480060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Θύμα δηλητηρίασης από υδράργυρο, αναπηρί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0" y="152280"/>
            <a:ext cx="46483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Ταξινόμηση αποβλή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E11B-E1B7-461E-880D-35DAF7995E7B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04920" y="914400"/>
            <a:ext cx="86104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Συμβατικά απόβλητ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OD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απόβλητα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πόβλητα που περιέχουν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μμωνιακό άζωτ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0920" y="3429000"/>
            <a:ext cx="8610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Αδρανή απόβλητ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τα αγροτικά απόβλητ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οικιακά υγρά αποχέτευση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μη επικίνδυνα οικιακά απορρίμματα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362320" y="228600"/>
            <a:ext cx="441936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Ταξινόμηση αποβλή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65E1-FFFB-4B41-B627-913A73B1CD21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762120" y="228600"/>
            <a:ext cx="77724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66"/>
                </a:solidFill>
                <a:latin typeface="Times New Roman"/>
              </a:rPr>
              <a:t>Διαχείριση – Διάθεση αποβλήτω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52280" y="1295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Times New Roman"/>
              </a:rPr>
              <a:t>Επικίνδυνα απόβλητ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2280" y="2209680"/>
            <a:ext cx="8763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την Ελλάδα δεν υπάρχουν μονάδες διαχείρισης τοξικών και άλλων επικίνδυνων αποβλήτω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εριβαλλοντικά σωστή λύση είναι η μεταφορά των επικίνδυνων αποβλήτων σε άλλες χώρες (Αγγλία, Γερμανία, Γαλλία) όπου υπάρχουν μονάδες επεξεργασίας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αλλά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το κόστος μεταφοράς είναι υψηλό (περίπου 3000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€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για μεταφορά ενός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 τόνου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552A-024E-4229-8A5D-50127FCFD537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0" y="1638360"/>
            <a:ext cx="86043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Με επίσημα στοιχεία το 1999 παρήχθησαν στην Ελλάδα 264.571 τόνοι επικίνδυνων στερεών και υγρών αποβλήτων. Από αυτά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μόλις το 0,12% μεταφέρθηκε στο εξωτερικό για τελική διάθεσ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το 1% υποβάλλεται σε μικρή επεξεργασί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το 22,73% ανακυκλώνεται στην παραγωγική διαδικασί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το 76,15% αποθηκεύεται προσωρινά σε χώρους που διαθέτουν οι βιομηχανίε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219320" y="228600"/>
            <a:ext cx="60958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Times New Roman"/>
              </a:rPr>
              <a:t>Διαχείριση – Διάθεση αποβλή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95280" y="981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</a:rPr>
              <a:t>Επικίνδυνα απόβλητ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2B71-6188-453A-BE52-70B15F2C611C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0" y="1052640"/>
            <a:ext cx="891540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Υγρά απόβλητ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Πρέπει  να εφαρμόζονται μέθοδοι επεξεργασίας, σημαντικά υψηλού κόστους, με σκοπό την ελάττωση της συγκέντρωσης των ρύπω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Οι μέθοδοι περιλαμβάνουν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357336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cc3300"/>
                </a:solidFill>
                <a:latin typeface="Arial Unicode MS"/>
              </a:rPr>
              <a:t>π</a:t>
            </a:r>
            <a:r>
              <a:rPr b="1" lang="el-GR" sz="2800" spc="-1" strike="noStrike">
                <a:solidFill>
                  <a:srgbClr val="cc3300"/>
                </a:solidFill>
                <a:latin typeface="Arial Unicode MS"/>
                <a:ea typeface="Times New Roman"/>
              </a:rPr>
              <a:t>ρωτοβάθμιο καθαρισμό</a:t>
            </a:r>
            <a:r>
              <a:rPr b="1" lang="el-GR" sz="28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45086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cc3300"/>
                </a:solidFill>
                <a:latin typeface="Arial Unicode MS"/>
              </a:rPr>
              <a:t>δ</a:t>
            </a:r>
            <a:r>
              <a:rPr b="1" lang="el-GR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ευτεροβάθμιο καθαρισμό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537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cc3300"/>
                </a:solidFill>
                <a:latin typeface="Arial Unicode MS"/>
              </a:rPr>
              <a:t>τ</a:t>
            </a:r>
            <a:r>
              <a:rPr b="1" lang="el-GR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ριτοβάθμιο καθαρισμ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76520" y="228600"/>
            <a:ext cx="601956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Times New Roman"/>
              </a:rPr>
              <a:t>Διαχείριση – Διάθεση αποβλή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E412-006D-4A93-93C0-359BF77467C9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waterpollution"/>
          <p:cNvPicPr/>
          <p:nvPr/>
        </p:nvPicPr>
        <p:blipFill>
          <a:blip r:embed="rId1"/>
          <a:stretch/>
        </p:blipFill>
        <p:spPr>
          <a:xfrm>
            <a:off x="228600" y="228600"/>
            <a:ext cx="4343400" cy="267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pollut02"/>
          <p:cNvPicPr/>
          <p:nvPr/>
        </p:nvPicPr>
        <p:blipFill>
          <a:blip r:embed="rId2"/>
          <a:stretch/>
        </p:blipFill>
        <p:spPr>
          <a:xfrm>
            <a:off x="5181480" y="3321000"/>
            <a:ext cx="3733920" cy="254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vdsg"/>
          <p:cNvPicPr/>
          <p:nvPr/>
        </p:nvPicPr>
        <p:blipFill>
          <a:blip r:embed="rId3"/>
          <a:stretch/>
        </p:blipFill>
        <p:spPr>
          <a:xfrm>
            <a:off x="228600" y="3124080"/>
            <a:ext cx="1549440" cy="3353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eneralpollution"/>
          <p:cNvPicPr/>
          <p:nvPr/>
        </p:nvPicPr>
        <p:blipFill>
          <a:blip r:embed="rId4"/>
          <a:stretch/>
        </p:blipFill>
        <p:spPr>
          <a:xfrm>
            <a:off x="4800600" y="228600"/>
            <a:ext cx="4135320" cy="2712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979640" y="4005360"/>
            <a:ext cx="2895480" cy="1373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Απόβλητα ΟΧΙ και τόσο καθαρά!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8364-0849-4974-B776-6056AAFB3121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250920" y="1052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Λάσπες – Στερεά απόβλητ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0920" y="184464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Η πιο αποδεκτή μέθοδος για την διάθεση των αποβλήτων αυτών είναι η υγειονομική ταφή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50920" y="34290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Για τα απορρίμματα των πόλεων και των οικισμών λειτουργούν σήμερα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400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εγκεκριμένες χωματερές. Όμως υπάρχουν και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500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αυθαίρετες χωματερές που βρίσκονται σε ακτές, μνημεία, ρέματα, ποτάμια και έλ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219320" y="152280"/>
            <a:ext cx="61722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Times New Roman"/>
              </a:rPr>
              <a:t>Διαχείριση – Διάθεση αποβλή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1FE0-3DF8-4817-9DC7-80885F4DDE37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" descr="3199"/>
          <p:cNvPicPr/>
          <p:nvPr/>
        </p:nvPicPr>
        <p:blipFill>
          <a:blip r:embed="rId1"/>
          <a:stretch/>
        </p:blipFill>
        <p:spPr>
          <a:xfrm>
            <a:off x="304920" y="341280"/>
            <a:ext cx="4647960" cy="3100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9589"/>
          <p:cNvPicPr/>
          <p:nvPr/>
        </p:nvPicPr>
        <p:blipFill>
          <a:blip r:embed="rId2"/>
          <a:stretch/>
        </p:blipFill>
        <p:spPr>
          <a:xfrm>
            <a:off x="5232240" y="380880"/>
            <a:ext cx="3505320" cy="5257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vgbry"/>
          <p:cNvPicPr/>
          <p:nvPr/>
        </p:nvPicPr>
        <p:blipFill>
          <a:blip r:embed="rId3"/>
          <a:stretch/>
        </p:blipFill>
        <p:spPr>
          <a:xfrm>
            <a:off x="533520" y="3581280"/>
            <a:ext cx="3124080" cy="2841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343400" y="5715000"/>
            <a:ext cx="44197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Πάντα υπάρχει μια λύση!!!</a:t>
            </a:r>
            <a:r>
              <a:rPr b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B2BF-6638-4E7C-92E0-2FF35C410881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457200" y="0"/>
            <a:ext cx="7924680" cy="131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Επίπεδα-Σύσταση αποβλήτων ορισμένων βασικών</a:t>
            </a:r>
            <a:r>
              <a:rPr b="1" lang="el-GR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l-GR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βιομηχανιώ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50920" y="1989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ύντομη αναφορά στην παραγωγική διαδικασία, καταγραφή των κυριότερων ρύπων που παράγονται και προτάσεις αντιρύπανσης-πράσινες λύσει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3500280"/>
            <a:ext cx="41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Παραγωγή ενέργεια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Βαφεία – Φινιριστήρια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Παραγωγή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λιπασμάτω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Βιομηχανίες κρέατο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859280" y="4653000"/>
            <a:ext cx="35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Χαρτοβιομηχαν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Βυρσοδεψί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Βιομηχανίες ζάχαρη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Βιομηχανίες ψαριώ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3E81-BB8D-4FEC-8437-DAC60B82FE9B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6" descr="portm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0" y="2276640"/>
            <a:ext cx="88200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Το αναλυτικό πρόγραμμα, τα περιεχόμενα και η ποιότητα των βιβλίων είναι η μια συνιστώσα για την διαμόρφωση της εντύπωσης των μαθητών για το μάθημα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της χημείας</a:t>
            </a: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Η άλλη συνιστώσα, ίσως η πιο σημαντική, είναι ο τρόπος με τον οποίο παρουσιάζεται και υποστηρίζεται η χημεία από τον διδάσκοντ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971800" y="152280"/>
            <a:ext cx="3276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66"/>
                </a:solidFill>
                <a:latin typeface="Times New Roman"/>
              </a:rPr>
              <a:t>Π ρ ό λ ο γ ο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l-GR" sz="4000" spc="-1" strike="noStrike">
                <a:solidFill>
                  <a:srgbClr val="000066"/>
                </a:solidFill>
                <a:latin typeface="Times New Roman"/>
              </a:rPr>
              <a:t>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ED8F-5A49-490D-961A-A41ECD8CAC0E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1125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Οινοποιεί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Παραγωγή οινοπνεύματος – Αποστακτήρι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Βιομηχανίες επεξεργασίας ελαίων – Ελαιοτριβεία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Βιομηχανίες γάλακτος και γαλακτοκομικών προϊόντω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Βιομηχανίες επεξεργασίας φρούτων και λαχανικών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Τσιμεντοβιομηχανίε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Βιομηχανίες Πετρελαιοειδώ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Μεταλλευτικές δραστηριότητες – Μεταλλουργεία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10BB-D9BE-4217-B640-0370FE158B88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250920" y="333360"/>
            <a:ext cx="849780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Ενδεικτικός κατάλογος των σημαντικότερων ρυπογόνων ουσιώ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Περιλαμβανεται στο παράρτημα ΙΙΙ της οδηγίας 96/61/ΕΚ, σχετικά με την Ολοκληρωμένη Πρόληψη και Έλεγχο της Ρύπανσης (Integrated Prevention Pollution Control, IPP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3124080"/>
            <a:ext cx="891540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SO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 Unicode MS"/>
                <a:ea typeface="Arial Unicode MS"/>
              </a:rPr>
              <a:t>2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και άλλες ενώσεις του θεί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NOx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και άλλες ενώσεις του αζώτ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πτητικές οργανικές ενώσει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πολυχλωροδιβενζοδιοξίνε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πολυχλωροδιβενζοφουράνι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24382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0000"/>
                </a:solidFill>
                <a:latin typeface="Times New Roman"/>
              </a:rPr>
              <a:t>Ο</a:t>
            </a:r>
            <a:r>
              <a:rPr b="1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υσίες που προκαλούν ρύπανση της ατμόσφαιρα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DE9D-670A-4728-BEBA-61827C189947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395280" y="260280"/>
            <a:ext cx="830592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μέταλλα και οι ενώσεις του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αμίαντος (αιωρούμενα σωματίδια και ίνε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l</a:t>
            </a:r>
            <a:r>
              <a:rPr b="1" lang="el-GR" sz="2400" spc="-1" strike="noStrike" baseline="-25000">
                <a:solidFill>
                  <a:srgbClr val="000066"/>
                </a:solidFill>
                <a:latin typeface="Times New Roman"/>
                <a:ea typeface="Arial Unicode MS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,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F</a:t>
            </a:r>
            <a:r>
              <a:rPr b="1" lang="el-GR" sz="2400" spc="-1" strike="noStrike" baseline="-25000">
                <a:solidFill>
                  <a:srgbClr val="000066"/>
                </a:solidFill>
                <a:latin typeface="Times New Roman"/>
                <a:ea typeface="Arial Unicode MS"/>
              </a:rPr>
              <a:t>2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και οι ενώσεις του</a:t>
            </a:r>
            <a:r>
              <a:rPr b="1" lang="el-GR" sz="2400" spc="-1" strike="noStrike">
                <a:solidFill>
                  <a:srgbClr val="000066"/>
                </a:solidFill>
                <a:latin typeface="Arial Unicode MS"/>
              </a:rPr>
              <a:t>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As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και οι ενώσεις το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ενώσει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κυανί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ουσίες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με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ιδιότητες καρκινογόνες, μεταλλαξιογόνες, ή ικανές να βλάψουν την αναπαραγωγή μέσω της ατμόσφαιρας</a:t>
            </a:r>
            <a:r>
              <a:rPr b="1" lang="el-GR" sz="2400" spc="-1" strike="noStrike">
                <a:solidFill>
                  <a:srgbClr val="000066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50920" y="414972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0000"/>
                </a:solidFill>
                <a:latin typeface="Arial Unicode MS"/>
              </a:rPr>
              <a:t>Ο</a:t>
            </a:r>
            <a:r>
              <a:rPr b="1" i="1" lang="el-GR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υσίες που προκαλούν ρύπανση των υδάτω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95280" y="46530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αλογονωμένες οργανικές ουσίε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οργανοφωσφορικές ενώσει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οργανοκασσιτερικές ενώσει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6DBB-BB55-4BF9-A6E7-BC0F3D495358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80880" y="380880"/>
            <a:ext cx="85345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ουσίες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με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ιδιότητες καρκινογόνες, μεταλλαξιογόνες ή ικανές να βλάψουν την αναπαραγωγή στο υδάτινο περιβάλλο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ανθεκτικοί υδρογονάνθρακες και ανθεκτικές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τοξικές ουσίε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κυανιούχες ενώσει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μέταλλα και οι ενώσεις του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αρσενικό και οι ενώσεις τ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ουσίες με βιοκτόνο δράσ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αιωρούμενες ουσίε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ουσίες που συμβάλλουν στον ευτροφισμ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ουσίες που έχουν αρνητική επίδραση στον ισοζύγιο του οξυγόνου (μετρούνται με παραμέτρους όπως BOD, CO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989E-149F-4864-B879-5CFEAA2C1115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2057400" y="152280"/>
            <a:ext cx="57546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Παραγωγή ενέργεια</a:t>
            </a:r>
            <a:r>
              <a:rPr b="1" lang="el-GR" sz="4000" spc="-1" strike="noStrike">
                <a:solidFill>
                  <a:srgbClr val="000066"/>
                </a:solidFill>
                <a:latin typeface="Times New Roman"/>
              </a:rPr>
              <a:t>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9907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ησιμοποιείται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μονωτικό ψυκτικό υγρό κλοφέν το οποίο περιέχει πολυχλωριωμένα διφαινύλια και τριφαινύλια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CB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κα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CT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pcb1"/>
          <p:cNvPicPr/>
          <p:nvPr/>
        </p:nvPicPr>
        <p:blipFill>
          <a:blip r:embed="rId1"/>
          <a:stretch/>
        </p:blipFill>
        <p:spPr>
          <a:xfrm>
            <a:off x="4643280" y="2133720"/>
            <a:ext cx="4114800" cy="23288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0" y="443700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80 τόνοι υγρά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B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απόβλητα, 420 μετασχηματιστές, 15.500 πυκνωτές που περιέχουν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Bs</a:t>
            </a:r>
            <a:r>
              <a:rPr b="1" lang="el-GR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πρέπει να αποσταλούν στο εξωτερικό για θερμοκαταστροφή σε ειδικές εγκαταστάσει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C00C-0A21-4A7E-897A-BEB63557AD70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0" y="1125360"/>
            <a:ext cx="899172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έχουν πολύ μικρή ηλεκτρική αγωγιμότητ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προσροφόνται ισχυρά στα αιωρούμενα σωματίδια και τα ιζήματα και συσσωρεύονται σε μεγάλε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υγκεντρώσεις επειδή βιοαποικοδομούνται δύσκολ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τα πτηνά ενεργοποιούν ένζυμα που μειώνουν τα οιστρογόνα με αποτέλεσμα να μειώνονται τα αποθέματα ασβεστίου και να δημιουργούνται προβλήματα στο σχηματισμό του κελύφους των αβγών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παρουσιάζουν χημική και θερμική σταθερότητ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Τα πολυχλωριωμένα διφαινύλια και τριφαινύλια</a:t>
            </a:r>
            <a:r>
              <a:rPr b="1" i="1" lang="el-GR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B94E-8C90-4A29-805F-4E43C7B341E7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68360" y="99072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ιδικές ανεμο-τουρμπίνες (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 turbines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μπορούν να χρησιμοποιηθού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για τη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επανατροφοδότηση εγκαταστάσεων παραγωγής ενέργειας σε κάποια περιοχή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95280" y="4941720"/>
            <a:ext cx="809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ιδικά «πάνελ» μπορούν να παράγουν ενέργει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΄΄ηλιακό ηλεκτρικό ρεύμα’’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ικανή να τροφοδοτήσει κατοικίες, φάρμες και βιομηχανικές μονάδε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143000" y="228600"/>
            <a:ext cx="6934320" cy="5814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Α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ιολική ενέργει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–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Ηλιακή ενέργει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IMG4148"/>
          <p:cNvPicPr/>
          <p:nvPr/>
        </p:nvPicPr>
        <p:blipFill>
          <a:blip r:embed="rId1"/>
          <a:stretch/>
        </p:blipFill>
        <p:spPr>
          <a:xfrm>
            <a:off x="6300720" y="2133720"/>
            <a:ext cx="23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hewonki SolarRoof"/>
          <p:cNvPicPr/>
          <p:nvPr/>
        </p:nvPicPr>
        <p:blipFill>
          <a:blip r:embed="rId2"/>
          <a:stretch/>
        </p:blipFill>
        <p:spPr>
          <a:xfrm>
            <a:off x="1042920" y="3789360"/>
            <a:ext cx="4680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8FAF-F6B0-4864-8C0A-FFACBEDD704D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1557360"/>
            <a:ext cx="8604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Η χαρτοβιομηχανία παράγει χαρτί και χαρτόνια, από ίνες ξύλου (ξύλο λεύκης) ή ίνες που προέρχονται από ανακύκλωση χρησιμοποιημένου χαρτιού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την Ελλάδα το ποσοστό ανάκτησης του  χαρτιού είναι  33% ενώ στις άλλες χώρες της Ευρωπαϊκής Ένωσης 42%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Το χαρτί που ανακυκλώνεται προέρχεται σε ποσοστό 70% από το 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Αττικής, 10% από το 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Θεσσαλονίκης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20% από την υπόλοιπη Ελλάδ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2666880" y="228600"/>
            <a:ext cx="4419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66"/>
                </a:solidFill>
                <a:latin typeface="Times New Roman"/>
              </a:rPr>
              <a:t>Χαρτοβιομηχανίε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E7C6-D259-4870-90A5-E746B2124F04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027"/>
          <p:cNvSpPr/>
          <p:nvPr/>
        </p:nvSpPr>
        <p:spPr>
          <a:xfrm>
            <a:off x="228600" y="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Β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οηθητικ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ές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ύλε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029"/>
          <p:cNvSpPr/>
          <p:nvPr/>
        </p:nvSpPr>
        <p:spPr>
          <a:xfrm>
            <a:off x="0" y="55872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Τάλκης (ΜgO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και CaO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για την μορφοποίηση του χαρτιού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Κόλλα κολοφωνίου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για την ελάττωση της υγρασίας του χαρτιού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Άμυλο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για αύξηση της αντοχής του χαρτιού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Θειικό αργίλιο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για τη συγκράτηση της κόλλας κολοφωνίου στο χαρτί καθώς και σαν κροκιδωτικό στην επεξεργασία των υγρών αποβλήτω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Καολίνης (Αl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3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και SiO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αν υλικό πληρώσεω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Υδατικά διαλύματα πολυαμινώ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για την αύξηση της υδροαντοχή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Ενώσεις 2,3,A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-amino-stilbene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για αυξημένη λευκότητ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Γλυκόλες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για την διάσπαση των αφρών στο νερ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Υδατικά διαλύματα του Methylene,2,Thiocyanat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για την πρόληψη ανάπτυξης μικροοργανισμών στο ανακυκλούμενο νερ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A38F-85F6-474F-8DD4-258359214088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304920" y="990720"/>
            <a:ext cx="883908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άπωνες, Πολυμερή σαπώνων και Γαλακτωματοποιητέ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σαν κροκιδωτικά και για απομελάνωση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a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4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aOH,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aSiO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TPA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για λεύκανση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Κατιονικά άμυλ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νιονικά άμυλ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για την αύξηση της αντοχής  και για την βελτίωση των οπτικών και εκτυπωτικών ιδιοτήτω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MC (carboxymethyl cellulose), Calcon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για ρύθμιση του ιξώδου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tex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μείγμα βουταδιένιου, στυρένιου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ως συγκολλητικό για τις επιχρίσεις του χαρτονιού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νθρακικό ασβέστιο (CaCO</a:t>
            </a:r>
            <a:r>
              <a:rPr b="1" lang="el-GR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για επιχρίσεις χαρτονιού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Χρώματ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33520" y="228600"/>
            <a:ext cx="327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28600" y="228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Β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οηθητικ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ές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ύλε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E45B-2DBC-48A9-AF77-50A0EBF0D8F5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0" y="1773360"/>
            <a:ext cx="8686800" cy="34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Το πρόβλημα είναι ότι η αναστροφή της πορείας προς την καταστροφή του περιβάλλοντος προϋποθέτε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τολμηρές αποφάσεις, παγκόσμια συνεργασία και ατομική υπευθυνότητ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ακόμη περισσότερο προϋποθέτει αλλαγή νοοτροπίας και αξιών.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»</a:t>
            </a:r>
            <a:r>
              <a:rPr b="0" lang="el-GR" sz="24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Γιώργος Γραμματικάκης, από το βιβλίο του ΄΄Η κόμη της Βερονίκης’’</a:t>
            </a:r>
            <a:r>
              <a:rPr b="0" lang="el-GR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276720" y="228600"/>
            <a:ext cx="243828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66"/>
                </a:solidFill>
                <a:latin typeface="Times New Roman"/>
              </a:rPr>
              <a:t>Εισαγωγή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9" descr="Image3"/>
          <p:cNvPicPr/>
          <p:nvPr/>
        </p:nvPicPr>
        <p:blipFill>
          <a:blip r:embed="rId1"/>
          <a:stretch/>
        </p:blipFill>
        <p:spPr>
          <a:xfrm>
            <a:off x="3348000" y="4581360"/>
            <a:ext cx="2303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E9B8-A624-4594-A2DE-2E7BE7F46C8B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52280" y="1890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Χαρακτηριστικά των υγρών αποβλή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33520" y="4005360"/>
            <a:ext cx="8153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2.   Π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εριέχουν αμινοξέα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αλκοόλες, λιπαρά οξέα,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φαινόλες, ινδόλη,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νιτρικά και νιτρώδη άλατα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και θειικά άλατα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57200" y="1295280"/>
            <a:ext cx="8153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Είναι ανάλογα με την κατανάλωση νερού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ποτελούνται από νερό που έχει επιβαρυνθεί με ενέργεια (συνήθως θερμότητα), υποπροϊόντα και παραπροϊόντα της παραγωγικής διαδικασίας. Στα υγρά απόβλητα υπάρχουν αιωρούμενα στερεά, διαλυμένες ουσίες και κολλοειδείς διασπορέ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D8AD-A500-4179-A081-7FB441D046DE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380880" y="1219320"/>
            <a:ext cx="815364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ο είδος των  βοηθητικών και πρώτων υλών (κυρίως κυτταρίνη) που χρησιμοποιούνται στην παραγωγή, έχει σαν αποτέλεσμα να μην υπάρχουν στα απόβλητα οι κατάλληλες αναλογίες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και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ώστε να γίνει βιολογική αποικοδόμηση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Ο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ι </a:t>
            </a:r>
            <a:r>
              <a:rPr b="1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ιοκτόνες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ενώσεις που χρησιμοποιούνται στην παραγωγή και διαφεύγουν στα υγρά απόβλητα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αναστέλλουν την επεξεργασία των αποβλήτω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189000"/>
            <a:ext cx="89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Χαρακτηριστικά των υγρών αποβλή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460E-138F-42AC-8D3E-8109B8A38341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Προτάσεις αντιρύπανσης – Πράσινες Λύσει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Περιορισμός της κατανάλωσης νερού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28600" y="175248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νακύκλωση στην παραγωγή των υγρών αποβλήτων μετά τον καθαρισμό του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ξηρή αποφλοίωση των κορμών (εξοικονομούνται μέχρι και 10 m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νερού ανά τόνο παραγόμενου πολτού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χρήση υδραυλικών δικτύων χωρίς διαρροέ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371600" y="5029200"/>
            <a:ext cx="297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0" y="4267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Περιορισμός πρώτων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και βοηθητικών υλώ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28600" y="4952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υμπληρωματική άλεση των τεμαχιδίων ξύλου που  δεν αξιοποιήθηκαν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B85E-F2E2-4F5A-82E1-CB06E97EB422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Περιορισμός της κατανάλωσης ενέργεια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95280" y="4437000"/>
            <a:ext cx="8534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εριορισμό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ς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των αντλήσεων (σχεδιασμός των υδραυλικών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ικτύων ώστε να λειτουργούν κατά το δυνατόν με βαρύτητα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ίκτυα ανάκτησης του ατμού στα στεγνωτικά τμήματ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24000" y="765000"/>
            <a:ext cx="8497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υγκράτηση και ανάκτηση ινών που διαφεύγουν σ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πόνερα από το σύνολο της παραγωγικής διαδικασίας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εριορισμός στην κατανάλωση υλικών αποσκλήρυνση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νερό χαμηλής σκληρότητας)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μείωση στην κατανάλωση καολίνη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με την προσθήκη μακρομορίων αμύλου.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περίπου 20%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Arial Unicode MS"/>
                <a:ea typeface="Times New Roman"/>
              </a:rPr>
              <a:t>Περιορισμός πρώτων και βοηθητικών υλώ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3B1F-D2E2-4CEF-B183-C96A8331DB40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95280" y="1413000"/>
            <a:ext cx="8305920" cy="43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ξιοποίηση, της θερμότητας των υδρατμών που παράγουν οι τριβές στις διατάξεις άλεσης (μπορεί να ανακτηθεί το 10- 15% της συνολικής κατανάλωση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μονώσεις των δικτύων θερμού νερ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τακτική συντήρηση λεβήτων και χρήση καθαρών καυσίμων όπως φυσικό αέριο, πετρέλαιο χαμηλής περιεκτικότητας σε θεί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7200" y="22860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Περιορισμός της κατανάλωσης ενέργεια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42C3-66D5-4F3B-AF93-EFE5B6E9E2B2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600200" y="609480"/>
            <a:ext cx="548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14288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4" descr="σάρωση0002"/>
          <p:cNvPicPr/>
          <p:nvPr/>
        </p:nvPicPr>
        <p:blipFill>
          <a:blip r:embed="rId1"/>
          <a:stretch/>
        </p:blipFill>
        <p:spPr>
          <a:xfrm>
            <a:off x="0" y="1844640"/>
            <a:ext cx="8964720" cy="33591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295280" y="228600"/>
            <a:ext cx="6096240" cy="10688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Παρασκευή λεβουλινικού οξέος από απόβλητα χαρτοβιομηχανία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4AA9-8214-4666-9F1F-29564D2CB7EA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752480" y="152280"/>
            <a:ext cx="53341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Βαφεία - Φινιριστήρια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0" y="98100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τα βαφεία-φινιριστήρια τα νήματα και υφάσματα επεξεργάζονται έτ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σ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ι ώστε να αποκτήσουν επιθυμητές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ιδιότητες και στη συνέχεια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χρησιμοποιούνται από τα κλωστήρια και τα υφαντήρια για την παραγωγή ετοίμων ενδυμάτων, χαλιών, κ.λ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0" y="3429000"/>
            <a:ext cx="8929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Η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επεξεργασία των υφασμάτων στα βαφεία-φινιριστήρια περιλαμβάνει διάφορα στάδια όπως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Κολλάρισμα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Διαβροχή-πλύση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Μερσερισμό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Κρεπάρισμα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Νεροτριβή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Λεύκανση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αφή,  Φινίρισμα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25E5-389E-470F-A759-1610C414F688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0" y="907920"/>
            <a:ext cx="889308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aOH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aCl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Ο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aClO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CHO,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οργανικοί διαλύτε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χρώματα α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ζωχρώματα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νίτρο-χρώματα, νιτρόδο-χρώματα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χρώματα στιλβενίου, κινολίνης, θείου, ανθρακινόνης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εξτρίνες,άμυλο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ραβοσίτου,πολυσακχαρίτες, λευκωματώδεις ουσίες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ιθανόλη, γλυκόλε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μεθ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υ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αιθέρες, αιθέρες κυτταρίνης με ανθρακικό οξύ, καρβ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ο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ξυ-μεθ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υ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οκυτταρίνη (CMC), ακετυλοκυτταρίνη, νιτροκυτταρίνες, αμυλαιθέρες, πολυακριλικά παράγωγα, ενώσεις πολυβινυλίο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ιαβρέκτες, πλυντικά, διασπορείς, μαλακωτικά, γυαλιστικά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θερμοπλαστικές ρητίνες σε μορφή γαλακτώματο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υλικά σκλήρυνσης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, οργανοχλωριωμένα βιοκτόνα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50920" y="476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Β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οηθητικ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ές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ύλε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5603-A29B-4008-BB34-CFB55CADB9F1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4" descr="earth-air-pollution"/>
          <p:cNvPicPr/>
          <p:nvPr/>
        </p:nvPicPr>
        <p:blipFill>
          <a:blip r:embed="rId1"/>
          <a:stretch/>
        </p:blipFill>
        <p:spPr>
          <a:xfrm>
            <a:off x="7556400" y="476280"/>
            <a:ext cx="1587600" cy="13780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"/>
          <p:cNvSpPr/>
          <p:nvPr/>
        </p:nvSpPr>
        <p:spPr>
          <a:xfrm>
            <a:off x="304920" y="152280"/>
            <a:ext cx="8610480" cy="58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Στα α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έρια απόβλητα</a:t>
            </a: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 περιέχοντα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πτητικοί υδρογονάνθρακες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VOCs)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όξινα αέρια όπως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από την χρήση χρωμάτων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διοξείδιο του χλωρίου από τη λεύκανσ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τμοί οξέων και βάσεω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κόνες από χρωστικές ουσίες και βοηθητικές ύλε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κόνες και ίνες από τις ξηρές επεξεργασίες του νήματος και το φινίρισμα των υφασμάτ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οργανικοί διαλύτες που χρησιμοποιούνται για  στεγνό καθάρισμα και για  τις πλύσεις των μηχανών βαφή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έρια από τις καύσεις στους ατμολέβητες των μονάδω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ACF6-8855-45D2-B123-5E69F1A3A1BC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79280" y="1052640"/>
            <a:ext cx="8686800" cy="3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Χαρακτηριστικά υγρών αποβλή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εριέχουν μεγάλες ποσότητες απορρυπαντικώ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έχουν σημαντικό οργανικό φορτίο</a:t>
            </a:r>
            <a:r>
              <a:rPr b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OD</a:t>
            </a:r>
            <a:r>
              <a:rPr b="0" lang="el-GR" sz="24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μέχρι 10.000mg/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ιωρούμενα στερεά  (SS μέχρι 30.000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g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υψηλό pH (μέχρι 13)</a:t>
            </a:r>
            <a:r>
              <a:rPr b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ή χαμηλό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H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ανάλογα με τα στάδιο επεξεργασίας) λόγω της χρήσης καυστικής σόδας και θειικού οξέο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7149-80AC-495C-8D47-D27221866DF8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2" descr="7"/>
          <p:cNvPicPr/>
          <p:nvPr/>
        </p:nvPicPr>
        <p:blipFill>
          <a:blip r:embed="rId1"/>
          <a:stretch/>
        </p:blipFill>
        <p:spPr>
          <a:xfrm>
            <a:off x="324000" y="1268280"/>
            <a:ext cx="3660480" cy="464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bd"/>
          <p:cNvPicPr/>
          <p:nvPr/>
        </p:nvPicPr>
        <p:blipFill>
          <a:blip r:embed="rId2"/>
          <a:stretch/>
        </p:blipFill>
        <p:spPr>
          <a:xfrm>
            <a:off x="4946760" y="1197000"/>
            <a:ext cx="4197240" cy="2994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52280" y="228600"/>
            <a:ext cx="61722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Ανεξέλεγκτες πηγές ρύπανση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earth-trash-pollution"/>
          <p:cNvPicPr/>
          <p:nvPr/>
        </p:nvPicPr>
        <p:blipFill>
          <a:blip r:embed="rId3"/>
          <a:stretch/>
        </p:blipFill>
        <p:spPr>
          <a:xfrm>
            <a:off x="4859280" y="4437000"/>
            <a:ext cx="3529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89EC-8CC3-49F0-AFDF-DDE5078E4FE9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24000" y="765000"/>
            <a:ext cx="8305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εριέχουν οργανικές ενώσεις του χλωρί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εριέχουν 50-250 mg/L Cr που προέρχεται από τις βαφές χρωμίου ή όξινες βαφές που περιέχουν χρώμι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εριέχουν διάφορα υπολείμματα χημικών από τις επεξεργασίες του φινιρίσματο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24000" y="3645000"/>
            <a:ext cx="82296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Τοξικές και επικίνδυνες ουσ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ναφθαλίνη, φαινόλες, τουλουόλιο, τετραχλωροαιθυλένιο, χλωροφόρμιο, τριχλωροαιθυλένιο</a:t>
            </a:r>
            <a:r>
              <a:rPr b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αρέα μέταλλ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r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n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d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b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και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g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04920" y="0"/>
            <a:ext cx="82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Χαρακτηριστικά υγρών αποβλήτω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722A-2C17-40F0-9B8D-734C4C013951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Προτάσεις αντιρύπανσης – Πράσινες Λύσει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0" y="1773360"/>
            <a:ext cx="87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ορθολογική διαχείριση της παραγωγής με στόχο την εξοικονόμηση νερού (κατά μέσο όρο απαιτούνται 100 λίτρα νερού ανά χιλιόγραμμο υφάσματος που επεξεργάζεται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!!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νακύκλωση του νερού ψύξης των μηχανών,  των συμπυκνωμάτων ατμού στους λέβητες, εφαρμογή πλύσεων σε αντιρροή που έμμεσα ανακυκλώνουν το νερ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όπου είναι δυνατό αντικατάσταση βοηθητικών υλών με άλλες χαμηλότερου  οργανικού φορτίου  που να μπορούν να ανακυκλωθούν από τα απόβλητ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492360" y="83664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Γενικ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81F8-2D06-45D6-B072-53E5749E7A35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0" y="404640"/>
            <a:ext cx="89154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χρήση σύγχρονου μηχανικού εξοπλισμού και τεχνικών βαφή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επιλογή χρωμάτων που δεν είναι επικίνδυνα ή τοξικά, αξιοποιούνται σε μεγαλύτερο ποσοστό και παράγουν μικρότερο οργανικό φορτίο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342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Περιορισμός αέριας ρύπανση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45086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χρήση καθαρότερων καυσίμων όπως το υγραέριο και το φυσικό αέριο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42B9-07CC-4BFA-B64C-1DF88F34FFA6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228600" y="1638360"/>
            <a:ext cx="86868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χρήση φίλτρων ενεργού άνθρακα για την προσρόφηση πτητικών οργανικών ουσιών (VOC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χρήση σακκόφιλτρων για κατακράτηση αιωρούμενων σωματιδίων (σκόνη, ίνες κ.λπ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χρήση υγρών καθαριστών για εξουδετέρωση ατμών οξέων ή βάσεω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χρήση βιο-αποικοδομήσιμων μη ιονικών απορρυπαντικών που δεν παράγουν τοξικούς μεταβολίτε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79280" y="404640"/>
            <a:ext cx="84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Περιορισμός αέριας ρύπανση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520E-BC8E-4DF7-A294-732A24AD0698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0" y="7650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ντικατάσταση χρωμάτων που παρασκευάζονται με βάση τη βενζιδίνη και τη ναφθόλ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249552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3" descr="msotw9_temp0"/>
          <p:cNvPicPr/>
          <p:nvPr/>
        </p:nvPicPr>
        <p:blipFill>
          <a:blip r:embed="rId1">
            <a:biLevel thresh="50000"/>
          </a:blip>
          <a:srcRect l="0" t="0" r="0" b="12702"/>
          <a:stretch/>
        </p:blipFill>
        <p:spPr>
          <a:xfrm>
            <a:off x="755640" y="1916280"/>
            <a:ext cx="7086600" cy="14000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1547640" y="3933720"/>
            <a:ext cx="56390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Χρώμα </a:t>
            </a: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βενζιδίνης,</a:t>
            </a: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 απαγορευμένο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4797360"/>
            <a:ext cx="88390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ντικατάσταση φωσφορικών αλάτων με ανθρακικά άλατ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ντικατάσταση των αζωτοχρωμάτων (ανάγονται σε καρκινογόνες αρωματικές αμίνες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Arial Unicode MS"/>
                <a:ea typeface="Times New Roman"/>
              </a:rPr>
              <a:t>Περιορισμός επικίνδυνων ουσιώ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1D31-2C22-4DA2-872D-0EA9200CA3CC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0" y="2133720"/>
            <a:ext cx="8964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Arial Unicode MS"/>
                <a:ea typeface="Times New Roman"/>
              </a:rPr>
              <a:t>Τα υγρά απόβλητα έχουν πολύ υψηλό ρυπαντικό φορτίο</a:t>
            </a:r>
            <a:r>
              <a:rPr b="0" lang="el-GR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οπότε ο βιολογικός καθαρισμός είναι απαραίτητο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Για τις  λάσπες και τα στερεά απόβλητα απαιτείται</a:t>
            </a:r>
            <a:r>
              <a:rPr b="1" lang="el-GR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εξουδετέρωση των επικίνδυνων και τοξικών ουσιών που περιέχουν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χημική ή βιολογική σταθεροποίηση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και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διάθεση σε οργανωμένους χώρους υποδοχής στερεών βιομηχανικών αποβλήτων που λειτουργούν με νόμιμη άδει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Picture 6" descr="domestic%20waste%20water2"/>
          <p:cNvPicPr/>
          <p:nvPr/>
        </p:nvPicPr>
        <p:blipFill>
          <a:blip r:embed="rId1"/>
          <a:stretch/>
        </p:blipFill>
        <p:spPr>
          <a:xfrm>
            <a:off x="3995640" y="3068640"/>
            <a:ext cx="4405320" cy="16556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"/>
          <p:cNvSpPr/>
          <p:nvPr/>
        </p:nvSpPr>
        <p:spPr>
          <a:xfrm>
            <a:off x="0" y="692280"/>
            <a:ext cx="8820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ντικατάσταση του αμύλου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με ουσίες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χαμηλού BOD, όπως η καρβοξυμεθυλοκυτταρίνη, η υδροξυμεθυλοκυτταρίνη, το πολυακριλικό οξύ και η πολυβυνιλική αλκοόλ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Περιορισμός επικίνδυνων ουσιώ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E4F1-4393-4C72-A171-88694D94CFC6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90920" y="0"/>
            <a:ext cx="38862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Βυρσοδεψεία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50920" y="888840"/>
            <a:ext cx="8458200" cy="60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Η επεξεργασία των δερμάτων στα βυρσοδεψεία περιλαμβάνει διάφορα στάδια όπω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Μαλάκωμ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σβέστωμ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ποσάρκωσ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πασβέστωσ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Ενζυμάτωσ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ικλάρισμα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έψ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ίπανσ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αφή,  Καλλωπισμό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F569-7FB7-420B-BAF9-724838D58A44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0" y="152280"/>
            <a:ext cx="89154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Arial Unicode MS"/>
              </a:rPr>
              <a:t>Βοηθητικές ύλε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σβεστόνερο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όξινο θειούχο νάτριο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μεταθειώδες νάτρι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Cl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ενζυματικά προϊόντα πλούσια σε αμμωνιακά άλατ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,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COOH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σε σκόνη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όξινο ανθρακικό νάτριο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χρώματα, αλκαλικές ουσίες, φυτικά εκχυλίσματ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CHO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ρητίνες, κεριά, λάδι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0" y="4797360"/>
            <a:ext cx="853452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Αέρια απόβλητ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παράγεται από τα θειούχα άλατα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παράγεται από τα αμμωνιακά άλατα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6F44-35A3-4FE9-9EBC-8E46C8DA25F8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0" y="1413000"/>
            <a:ext cx="867564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υδρογονάνθρακες (παράγονται  από τους  διαλύτες και του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χλωριωμένους υδρογονάνθρακες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φορμαλδεΰδ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</a:t>
            </a: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Χαρακτηριστικά των υγρών αποβλή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έχουν μεγάλο φορτίο ρύπ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εριέχου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και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+3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ενώ σε μεμονωμένες περιπτώσεις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u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και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που προέρχονται από τα χρώματ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Αέρια απόβλητ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8490-CBD2-404E-A5BB-AEF2DD20C942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250920" y="260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0" y="333360"/>
            <a:ext cx="9144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Στερεά απόβλητ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τρίχες με κομμάτια δέρματο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κόνη τροχίσματο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κομμάτια σάρκα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κομμάτια τελειωμένου δέρματο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ιζήματα που παράγονται κατά τις διαδικασίες επεξεργασίας των υγρών αποβλήτων (περιέχουν ποσότητες θειούχων και χρωμιούχω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βιομάζα από τη βιολογική επεξεργασία των υγρών αποβλήτ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4BB7-69D5-41EC-A7E4-9B43CD4454DC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0" y="914400"/>
            <a:ext cx="8915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Ο πολιτισμός σήμερα είναι κυρίως ένα επιστημονικό και όχι ηθικό ιδεώδες.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Η κοινωνική πρόοδος διαχωρίζεται από τον ανθρωπισμ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3" descr="8"/>
          <p:cNvPicPr/>
          <p:nvPr/>
        </p:nvPicPr>
        <p:blipFill>
          <a:blip r:embed="rId1"/>
          <a:stretch/>
        </p:blipFill>
        <p:spPr>
          <a:xfrm>
            <a:off x="5796000" y="3429000"/>
            <a:ext cx="228600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250920" y="3860640"/>
            <a:ext cx="5122800" cy="1373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Αβιταμίνωση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, o</a:t>
            </a: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πολιτισμός και η οικονομική ανάπτυξη δεν έλυσαν το πρόβλημα της πείνα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5410080"/>
            <a:ext cx="883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28600" y="228600"/>
            <a:ext cx="36576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</a:rPr>
              <a:t>Ηθική διάστασ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FEE2-0A52-4343-A228-03BF162ACC44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Προτάσεις αντιρύπανσης – Πράσινες Λύσει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0" y="1628640"/>
            <a:ext cx="874872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να περιορισθεί δραστικά η χρήση χρωστικών και λιπαντικών υλών οι οποίες είναι δυνατόν να αναστείλουν την βιολογική δράση κατά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 τη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βιολογική επεξεργασία των αποβλήτω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υστηρότερα όρια της περιεκτικότητας των απόνερων σε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και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εριορισμός χρήσης δραστικών χρωστικώ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εριορισμός της χρήσης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5E52-F6E4-4520-9519-48F03A846162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79280" y="549360"/>
            <a:ext cx="86868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παγόρευση της παραγωγής ή διάθεσης χρωστικών που περιέχουν καρκινογόνες αμίν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περιορισμός της χρήσης λιπαντικών υλών που περιέχουν οργανικούς διαλύτ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ντικατάσταση της φορμαλδεύδης  με την εξα-μεθ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ξυ-μεθυλ-μελαμίνη (HMMM), που είναι αρκετά πιο ακριβή αλλά δεν ερεθίζει το δέρμα και τα μάτι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περιορισμός της χρήσης αρωματικών που συμβάλουν στην παραγωγή PANs (νιτρικό υπεροξείδιο ακετυλενίου) και όζοντος στα χαμηλότερα στρώματα της ατμόσφαιρα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6B5E-BC27-4167-BA8A-268994AC785A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0" y="549360"/>
            <a:ext cx="86868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εριορισμός της χρήσης οργανικών διαλυτώ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ιαχωρισμός των θειούχων απόνερων από τα υπόλοιπα υγρά απόβλητα και καταλυτική οξείδωση των θειούχων με θειικό μαγγάνιο για περιορισμό των εκπομπών υδρόθειο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αποτελεσματικότερη αξιοποίηση των χρωστικών  με βελτίωση των συνθηκών βαφή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8634-8D0E-4221-A1E9-CF4E3F4BA7CD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0" y="54936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τερεά υπολείμματα, ιζήματα και  η βιομάζα που απομένει από τη βιολογική επεξεργασία μπορεί να χρησιμοποιηθούν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ως </a:t>
            </a: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λίπασμα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0" y="2060640"/>
            <a:ext cx="8532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πό την καύση στερεών αποβλήτων και λασπών μπορεί να παραχθεί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αξιοποιήσιμη ενέργεια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και μπορεί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να ανακτηθεί το χρώμιο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πό την τέφρα.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Από τα δέρματα αρνιών μπορεί </a:t>
            </a:r>
            <a:r>
              <a:rPr b="1" lang="el-GR" sz="2800" spc="-1" strike="noStrike">
                <a:solidFill>
                  <a:srgbClr val="000000"/>
                </a:solidFill>
                <a:latin typeface="Arial Unicode MS"/>
              </a:rPr>
              <a:t>να ανακτηθεί το μαλλί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και </a:t>
            </a:r>
            <a:r>
              <a:rPr b="1" lang="el-GR" sz="2800" spc="-1" strike="noStrike">
                <a:solidFill>
                  <a:srgbClr val="000000"/>
                </a:solidFill>
                <a:latin typeface="Arial Unicode MS"/>
              </a:rPr>
              <a:t>η τρίχα</a:t>
            </a:r>
            <a:r>
              <a:rPr b="0" lang="el-GR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</a:rPr>
              <a:t>(</a:t>
            </a:r>
            <a:r>
              <a:rPr b="0" lang="el-GR" sz="2800" spc="-1" strike="noStrike">
                <a:solidFill>
                  <a:srgbClr val="000066"/>
                </a:solidFill>
                <a:latin typeface="Arial Unicode MS"/>
              </a:rPr>
              <a:t>ζωοτροφές, λίπασμα, ως πηγή κερατίνης που χρησιμοποιείται στα καλλυντικά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80880" y="38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A8D3-4416-4FC3-8967-06578A089F49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324000" y="620640"/>
            <a:ext cx="853416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Η εμπειρία έδειξε ότι η αξιοποίηση του μαλλιού και της τρίχας μπορεί να καλύψει το κόστος παραγωγής μέχρι και τη</a:t>
            </a:r>
            <a:r>
              <a:rPr b="0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 </a:t>
            </a: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δέψη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Εργαστηριακές έρευνες έδειξαν ότι τα στερεά απόβλητα και τα ιζήματα των βυρσοδεψείων είναι κατάλληλα για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παραγωγή βιοαερίου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</a:rPr>
              <a:t>Τα υπολείμματα από την επεξεργασία του ασβεστώματος μπορούν, μετά από απασβέστωση, να χρησιμοποιηθούν σαν</a:t>
            </a:r>
            <a:r>
              <a:rPr b="0" lang="el-GR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l-GR" sz="2800" spc="-1" strike="noStrike">
                <a:solidFill>
                  <a:srgbClr val="000066"/>
                </a:solidFill>
                <a:latin typeface="Arial Unicode MS"/>
              </a:rPr>
              <a:t>ζωοτροφές για σκύλους</a:t>
            </a:r>
            <a:r>
              <a:rPr b="0" lang="el-GR" sz="2800" spc="-1" strike="noStrike">
                <a:solidFill>
                  <a:srgbClr val="ffffff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CD4F-CCA9-4E7A-A465-605C6F645D32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52280" y="228600"/>
            <a:ext cx="8452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Τα υπολείμματα από την επεξεργασία του ασβεστώματος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μπορούν να χρησιμοποιηθούν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για παραγωγή υμενίων κολλαγόνου και ζελατίνης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τα οποία χρησιμοποιούντα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50920" y="1844640"/>
            <a:ext cx="8497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αν υμένια συσκευασίας λουκάνικ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τη μικροχειρουργική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αν “συνθετικό δέρμα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τα προϊόντα ομορφιάς και καλλυντικ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αν ενέσιμο κολλαγόνο για πλαστική χειρουργικ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για φαρμακευτικά προϊόντα ελεγχόμενης απελευθέρωσης ενεργών ουσιώ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EBC1-1AC3-4823-B09C-12486C85D9F0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476360" y="152280"/>
            <a:ext cx="676764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Παραγωγή λιπασμάτω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28600" y="1066680"/>
            <a:ext cx="891540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</a:rPr>
              <a:t>Πρώτες ύλε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de-D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de-DE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ατίτη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ς)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F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θοριοαπατίτης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Cl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aCl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υλβινίτη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ς)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Cl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gCl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καρναλλίτη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28600" y="3657600"/>
            <a:ext cx="830592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</a:rPr>
              <a:t>Κυριότερα λιπάσματα</a:t>
            </a:r>
            <a:r>
              <a:rPr b="1" i="1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H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H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aNO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H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HPO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O</a:t>
            </a:r>
            <a:r>
              <a:rPr b="0" lang="el-G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450D-C28F-4DC7-B623-29CA7DA8101A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0" y="0"/>
            <a:ext cx="889308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Τα χημικά λιπάσματα είναι στην πλειοψηφία τους επικίνδυνες ουσίες διότ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όταν θερμαίνεται αποβάλλει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οι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φωσφορίτες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που χρησιμοποιούνται σαν πρώτες ύλες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περιέχουν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προσμίξεις βαρέων μετάλλων (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d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b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κ.λπ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ημιουργούν ευτροφισμό στους υδάτινους αποδέκτες (ποταμούς, λίμνες, θάλασσες) και ρυπαίνουν τα υπόγεια νερ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ο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είναι αιτία ανάπτυξης του φυτοπλαγκτού</a:t>
            </a:r>
            <a:r>
              <a:rPr b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τους υδάτινους αποδέκτε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3B08-F060-4B6D-AB55-68A6D0F12C55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2" descr="15"/>
          <p:cNvPicPr/>
          <p:nvPr/>
        </p:nvPicPr>
        <p:blipFill>
          <a:blip r:embed="rId1"/>
          <a:stretch/>
        </p:blipFill>
        <p:spPr>
          <a:xfrm>
            <a:off x="228600" y="152280"/>
            <a:ext cx="3962520" cy="3083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9"/>
          <p:cNvPicPr/>
          <p:nvPr/>
        </p:nvPicPr>
        <p:blipFill>
          <a:blip r:embed="rId2"/>
          <a:stretch/>
        </p:blipFill>
        <p:spPr>
          <a:xfrm>
            <a:off x="3581280" y="3429000"/>
            <a:ext cx="4419720" cy="29797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4267080" y="228600"/>
            <a:ext cx="3733920" cy="315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Μεγάλος αριθμός υδρόβιων φυτών και φυκιών σε λίμνη, δείγμα ευτροφισμού Ελαττώνεται η ποσότητα του Ο</a:t>
            </a:r>
            <a:r>
              <a:rPr b="1" lang="el-GR" sz="28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και τα ψάρια πεθαίνουν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685800" y="3276720"/>
            <a:ext cx="2438280" cy="3080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Φυτοπλαγκτόν στο οποίο παγιδεύονται νεκροί οργανισμοί, ψάρια και σκουπίδια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4958-BABA-405B-966C-69DAC3566BB1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ροτάσεις αντιρύπανσης–Πράσινες λύσεις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04920" y="1066680"/>
            <a:ext cx="8381880" cy="27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Ο περιορισμός της ποσότητας των φωσφορικών στα απόβλητα μπορεί να γίνει με προσθήκη οξειδίου του μαγνησίου και ποτάσα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gO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+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+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</a:t>
            </a:r>
            <a:r>
              <a:rPr b="0" lang="el-GR" sz="24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</a:t>
            </a:r>
            <a:r>
              <a:rPr b="0" lang="el-GR" sz="24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+   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</a:t>
            </a:r>
            <a:r>
              <a:rPr b="0" lang="el-GR" sz="24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MgPO</a:t>
            </a:r>
            <a:r>
              <a:rPr b="0" lang="el-GR" sz="24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6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</a:t>
            </a:r>
            <a:r>
              <a:rPr b="0" lang="el-GR" sz="24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Το παραγόμενο μικτό φωσφορικό άλας μπορεί να χρησιμοποιηθεί σαν </a:t>
            </a:r>
            <a:r>
              <a:rPr b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μαγνησιούχο λίπασμ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28600" y="4191120"/>
            <a:ext cx="838188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Ο περιορισμός της ποσότητας των φθοριούχων μπορεί να πραγματοποιηθεί με την κατακρήμνισή τους υπό μορφή απατίτη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   +   2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Ca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+   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+   2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B338-CBC7-4DE4-9FE5-34E2208C1D9D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2" descr="3"/>
          <p:cNvPicPr/>
          <p:nvPr/>
        </p:nvPicPr>
        <p:blipFill>
          <a:blip r:embed="rId1"/>
          <a:stretch/>
        </p:blipFill>
        <p:spPr>
          <a:xfrm>
            <a:off x="2286000" y="3840120"/>
            <a:ext cx="4114800" cy="2800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0" y="2438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10000"/>
                </a:solidFill>
                <a:latin typeface="Arial Unicode MS"/>
              </a:rPr>
              <a:t>Από την οικονομική ανάπτυξη και άνοδο του βιοτικού επιπέδου δεν «ωφελούνται» όλοι</a:t>
            </a:r>
            <a:r>
              <a:rPr b="0" lang="en-US" sz="2800" spc="-1" strike="noStrike">
                <a:solidFill>
                  <a:srgbClr val="010000"/>
                </a:solidFill>
                <a:latin typeface="Arial Unicode MS"/>
              </a:rPr>
              <a:t>.</a:t>
            </a:r>
            <a:r>
              <a:rPr b="0" lang="el-GR" sz="2800" spc="-1" strike="noStrike">
                <a:solidFill>
                  <a:srgbClr val="010000"/>
                </a:solidFill>
                <a:latin typeface="Arial Unicode MS"/>
              </a:rPr>
              <a:t> Τις αρνητικές επιπτώσεις τις υφίστανται όλοι</a:t>
            </a:r>
            <a:r>
              <a:rPr b="0" lang="en-US" sz="2800" spc="-1" strike="noStrike">
                <a:solidFill>
                  <a:srgbClr val="010000"/>
                </a:solidFill>
                <a:latin typeface="Arial Unicode MS"/>
              </a:rPr>
              <a:t>.</a:t>
            </a:r>
            <a:r>
              <a:rPr b="0" lang="el-GR" sz="2800" spc="-1" strike="noStrike">
                <a:solidFill>
                  <a:srgbClr val="01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260280"/>
            <a:ext cx="381636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Times New Roman"/>
              </a:rPr>
              <a:t>Ηθική διάστασ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700360" y="1341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-252360" y="1557360"/>
            <a:ext cx="674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0" y="981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10000"/>
                </a:solidFill>
                <a:latin typeface="Arial Unicode MS"/>
              </a:rPr>
              <a:t>Η οικονομική ανάπτυξη είναι επιθυμητή και κρίνεται ηθική ανεξάρτητα από το κόστος προς το περιβάλλο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D65C-D4A7-4FC2-B58F-7A048C628A35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22320" y="-223920"/>
            <a:ext cx="360" cy="18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047760" cy="23619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0" y="165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22320" y="-249120"/>
            <a:ext cx="3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0" y="1643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228600" y="304920"/>
            <a:ext cx="8686800" cy="10688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Παραγωγή του ΤΡΑ (Θερμικός πολυασπαρτίτη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304920" y="4038480"/>
            <a:ext cx="85341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ει την απορρόφηση θρεπτικών συστατικών από τα φυτά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ει την αποτελεσματικότητα ορισμένων παρασιτοκτόνων οπότε χρησιμοποιούνται σε μικρότερες ποσότητες.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4114800" y="2209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Υδρόλυση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11"/>
          <p:cNvSpPr/>
          <p:nvPr/>
        </p:nvSpPr>
        <p:spPr>
          <a:xfrm>
            <a:off x="4114800" y="2666880"/>
            <a:ext cx="1371600" cy="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0" y="1484280"/>
            <a:ext cx="10126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455040" y="2492280"/>
            <a:ext cx="60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00"/>
                </a:solidFill>
                <a:latin typeface="Tahoma"/>
              </a:rPr>
              <a:t>ΝΗ</a:t>
            </a:r>
            <a:r>
              <a:rPr b="0" lang="el-GR" sz="1800" spc="-1" strike="noStrike" baseline="-25000">
                <a:solidFill>
                  <a:srgbClr val="00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F774-EAA0-4CB4-8040-9979F988220E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66"/>
                </a:solidFill>
                <a:latin typeface="Times New Roman"/>
              </a:rPr>
              <a:t>Α</a:t>
            </a:r>
            <a:r>
              <a:rPr b="1" lang="el-GR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ναγέννηση χρησιμοποιημένων ορυκτελαίω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0" y="2276640"/>
            <a:ext cx="91440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την Ελλάδα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40.000 τόνοι ορυκτέλαια καταναλώνονται ετησίω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5.000 τόνοι είναι δυνατό να ανακυκλωθού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5.000 τόνοι φτάνουν στις εταιρίες ανακύκλωσης από τα πρατήρια και τα συνεργεί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0" y="3581280"/>
            <a:ext cx="914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2933-CD07-4CD5-B517-2324EED0A37B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0" y="189000"/>
            <a:ext cx="8915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ολύ επικίνδυνη περιβαλλοντική ρύπανση προκύπτει στις περιπτώσεις που αγρότες οι βιοτέχνες χρησιμοποιούν καμένα λάδια σαν καύσιμα (μεταξύ των άλλων ρύπων περιέχονται διοξίνες και τοξικά μέταλλα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Οι διοξίνες στα κοτόπουλα Βελγίου πριν λίγα χρόνια προήλθαν από καμένα λάδια με τα οποία είχαν αλείψει τους σωλήνες παροχής τροφής για να ρέουν πιο εύκολα τα μίγματα των τροφώ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0" y="386064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Σύμφωνα με στοιχεία των εταιριών ανακύκλωσης είναι χαρακτηριστικό ότι τους καλοκαιρινούς μήνες συλλέγονται περισσότερες ποσότητες λαδιών από τους χειμερινούς (φαίνεται ότι το χειμώνα «αξιοποιούνται με άλλο τρόπο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0" y="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8D58-66B8-435A-B60D-C37D425BDA25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Picture 5" descr="earthy_pollution_lg_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2"/>
          <p:cNvSpPr/>
          <p:nvPr/>
        </p:nvSpPr>
        <p:spPr>
          <a:xfrm>
            <a:off x="179280" y="333360"/>
            <a:ext cx="358164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66"/>
                </a:solidFill>
                <a:latin typeface="Times New Roman"/>
              </a:rPr>
              <a:t>Συμπεράσματα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24000" y="1125360"/>
            <a:ext cx="84582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Σε πολλές περιπτώσεις είναι γνωστά τα μέτρα που πρέπει να λαμβάνονται για τη μείωση της ρύπανση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Σε πολλές περιπτώσεις η επιστήμη έχει προτάσεις, νέες λύσεις για τη μείωση των προβλημάτω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Το ζήτημα είναι ποιος θα επωμιστεί το κόστος  !!!!!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Όλοι είμαστε υπεύθυνοι όλοι χρωστάμ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50920" y="5911920"/>
            <a:ext cx="8305560" cy="94716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Times New Roman"/>
              </a:rPr>
              <a:t>Σύμφωνα με την οικονομία της αγοράς  προϊόντα που δεν καταναλώνονται δεν παράγονται !!!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242E-3845-41B2-8420-CA4A060323E9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2" descr="1"/>
          <p:cNvPicPr/>
          <p:nvPr/>
        </p:nvPicPr>
        <p:blipFill>
          <a:blip r:embed="rId1"/>
          <a:stretch/>
        </p:blipFill>
        <p:spPr>
          <a:xfrm>
            <a:off x="228600" y="820800"/>
            <a:ext cx="3276720" cy="257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10252"/>
          <p:cNvPicPr/>
          <p:nvPr/>
        </p:nvPicPr>
        <p:blipFill>
          <a:blip r:embed="rId2"/>
          <a:stretch/>
        </p:blipFill>
        <p:spPr>
          <a:xfrm>
            <a:off x="5943600" y="838080"/>
            <a:ext cx="2971800" cy="1992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bu"/>
          <p:cNvPicPr/>
          <p:nvPr/>
        </p:nvPicPr>
        <p:blipFill>
          <a:blip r:embed="rId3"/>
          <a:stretch/>
        </p:blipFill>
        <p:spPr>
          <a:xfrm>
            <a:off x="228600" y="3498840"/>
            <a:ext cx="3276720" cy="297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yuuo"/>
          <p:cNvPicPr/>
          <p:nvPr/>
        </p:nvPicPr>
        <p:blipFill>
          <a:blip r:embed="rId4"/>
          <a:stretch/>
        </p:blipFill>
        <p:spPr>
          <a:xfrm>
            <a:off x="5940360" y="3284640"/>
            <a:ext cx="2984400" cy="3124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80880" y="152280"/>
            <a:ext cx="84582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</a:rPr>
              <a:t>Η ατμοσφαιρική ρύπανση δεν έχει σύνορ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581280" y="838080"/>
            <a:ext cx="2286000" cy="557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Φ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ωτοχημική ρύπανση</a:t>
            </a:r>
            <a:r>
              <a:rPr b="0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λα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γ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ή της σύστασης του ατμοσφαιρικού αέρ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Μ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ε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ίωση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τη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ς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στοιβάδα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ς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του όζοντος</a:t>
            </a:r>
            <a:r>
              <a:rPr b="0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Ε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νίσχυση του  φαινομένου του θερμοκηπίου</a:t>
            </a:r>
            <a:r>
              <a:rPr b="0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</a:rPr>
              <a:t>Ο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ξινη βροχή</a:t>
            </a:r>
            <a:r>
              <a:rPr b="1" lang="el-G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A16B-A1F3-448F-9AF0-22CA65C1A8A7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pollution_620"/>
          <p:cNvPicPr/>
          <p:nvPr/>
        </p:nvPicPr>
        <p:blipFill>
          <a:blip r:embed="rId1"/>
          <a:stretch/>
        </p:blipFill>
        <p:spPr>
          <a:xfrm>
            <a:off x="304920" y="3327480"/>
            <a:ext cx="4114800" cy="344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10"/>
          <p:cNvPicPr/>
          <p:nvPr/>
        </p:nvPicPr>
        <p:blipFill>
          <a:blip r:embed="rId2"/>
          <a:stretch/>
        </p:blipFill>
        <p:spPr>
          <a:xfrm>
            <a:off x="4572000" y="237960"/>
            <a:ext cx="4419720" cy="3168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304920" y="990720"/>
            <a:ext cx="2743200" cy="2226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Ρύπανση των υδάτων με βαρέα μέταλλα και άλλες τοξικές ουσ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324480" y="3505320"/>
            <a:ext cx="2590920" cy="15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Ανάπτυξη του φυτοπλαγκτο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Ευτροφισμό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3CC4-EEA9-4ADF-83EA-AF937D1CAF12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ty"/>
          <p:cNvPicPr/>
          <p:nvPr/>
        </p:nvPicPr>
        <p:blipFill>
          <a:blip r:embed="rId1"/>
          <a:stretch/>
        </p:blipFill>
        <p:spPr>
          <a:xfrm>
            <a:off x="228600" y="2590920"/>
            <a:ext cx="4724280" cy="386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m_tree8"/>
          <p:cNvPicPr/>
          <p:nvPr/>
        </p:nvPicPr>
        <p:blipFill>
          <a:blip r:embed="rId2"/>
          <a:stretch/>
        </p:blipFill>
        <p:spPr>
          <a:xfrm>
            <a:off x="5111640" y="304920"/>
            <a:ext cx="3786120" cy="3962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219320" y="609480"/>
            <a:ext cx="2819160" cy="15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Καταστροφή της βλάστηση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</a:rPr>
              <a:t>Ερημοποίησ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mitris Giannakoudakis</cp:lastModifiedBy>
  <dcterms:modified xsi:type="dcterms:W3CDTF">2012-02-18T16:41:23Z</dcterms:modified>
  <cp:revision>46</cp:revision>
  <dc:subject/>
  <dc:title>PowerPoint Presentation</dc:title>
</cp:coreProperties>
</file>